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2867E6-4708-43F7-AFCA-07A3EBD191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31AC0-B517-4DC1-A85B-1DE1BB249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63169B-9AF7-485D-8ABF-FD1F5EAF7C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959B21-4CEB-4C15-92B1-CB3FD88DF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DDD33-0790-4D1F-B53F-6E90E368E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1B4A6-2A20-4582-95FB-3D2BD4C3C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5335E-C954-4E66-BB31-20CFA6B22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FC675-E957-41C7-8EFA-84D50844E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AB2A7-DDB1-4731-ABD9-98DF48F6F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917C8-714E-4387-9E5A-83AAA8B51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23DCD-066B-433F-B8A6-E43C7D24D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3C8AE-4942-481E-B04B-D7EDF15F92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74976-7766-463E-89D4-5B9E82AF3F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meo and Juliet </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Weymouth Cha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lliam Shakespeare </a:t>
            </a: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219320"/>
            <a:ext cx="8305920" cy="548640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iam Shakespeare was an English poet and playwright, widely regarded as the greatest writer in the English language. He is often called England's national poet and the "Bard of Avon". Shakespeare was born and raised in Stratford-upon-Avon. At the age of 18, he married Anne Hathaway. Shakespeare produced most of his known work between 1589 and 1613. Many of his plays were published in editions of varying quality and accuracy during his lifetime. It is not known exactly when Shakespeare began writing, but contemporary allusions and records of performances show that several of his plays were on the London stage by 1592. Shakespeare died on 23 April 1616</a:t>
            </a:r>
            <a:r>
              <a:rPr b="0" lang="en-US" sz="2000" spc="-1" strike="noStrike">
                <a:solidFill>
                  <a:srgbClr val="000000"/>
                </a:solidFill>
                <a:latin typeface="Arial"/>
              </a:rPr>
              <a:t>. </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pedia.</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371600" y="4038120"/>
            <a:ext cx="5867280" cy="2667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 fighting scene that someone has painted from the play Romeo and Juliet. This is very well done and it shows a lot of what it might have actually looked like</a:t>
            </a:r>
            <a:br>
              <a:rPr sz="2000"/>
            </a:br>
            <a:br>
              <a:rPr sz="2000"/>
            </a:br>
            <a:r>
              <a:rPr b="0" lang="en-US" sz="2000" spc="-1" strike="noStrike">
                <a:solidFill>
                  <a:srgbClr val="000000"/>
                </a:solidFill>
                <a:latin typeface="Arial"/>
              </a:rPr>
              <a:t>Google images</a:t>
            </a:r>
            <a:endParaRPr b="0" lang="en-US" sz="2000" spc="-1" strike="noStrike">
              <a:solidFill>
                <a:srgbClr val="000000"/>
              </a:solidFill>
              <a:latin typeface="Arial"/>
            </a:endParaRPr>
          </a:p>
        </p:txBody>
      </p:sp>
      <p:pic>
        <p:nvPicPr>
          <p:cNvPr id="46" name="" descr=""/>
          <p:cNvPicPr/>
          <p:nvPr/>
        </p:nvPicPr>
        <p:blipFill>
          <a:blip r:embed="rId1"/>
          <a:stretch/>
        </p:blipFill>
        <p:spPr>
          <a:xfrm>
            <a:off x="2133720" y="533520"/>
            <a:ext cx="4419360" cy="353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3429000"/>
            <a:ext cx="8229600" cy="26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scene in the modern film of Romeo and Juliet. Where Romeo and his buddy are talkin about someth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gle images</a:t>
            </a:r>
            <a:endParaRPr b="0" lang="en-US" sz="2000" spc="-1" strike="noStrike">
              <a:solidFill>
                <a:srgbClr val="000000"/>
              </a:solidFill>
              <a:latin typeface="Arial"/>
            </a:endParaRPr>
          </a:p>
        </p:txBody>
      </p:sp>
      <p:pic>
        <p:nvPicPr>
          <p:cNvPr id="48" name="" descr=""/>
          <p:cNvPicPr/>
          <p:nvPr/>
        </p:nvPicPr>
        <p:blipFill>
          <a:blip r:embed="rId1"/>
          <a:stretch/>
        </p:blipFill>
        <p:spPr>
          <a:xfrm>
            <a:off x="2438280" y="380880"/>
            <a:ext cx="3762360" cy="279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218960"/>
            <a:ext cx="8229600" cy="380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me filmmakers have made different movies to help people understand the play better. They might have taken it out and rewritten it so people can better understand it. Rather than watching it in the old English version you easily understand what is happe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9/11 and Romeo and Juliet have some similarities in the fact that their both tragedi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9T14:59:53Z</dcterms:created>
  <dc:creator>dcsuser</dc:creator>
  <dc:description/>
  <dc:language>en-US</dc:language>
  <cp:lastModifiedBy>dcsuser</cp:lastModifiedBy>
  <dcterms:modified xsi:type="dcterms:W3CDTF">2010-05-22T13:35:53Z</dcterms:modified>
  <cp:revision>4</cp:revision>
  <dc:subject/>
  <dc:title>Romeo and Juliet </dc:title>
</cp:coreProperties>
</file>