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FEB17-A50A-451D-99F2-AD41C3D0C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A1DF3-47E1-4B4B-941D-31A3C5E0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07AFB-818E-4ACE-8D3F-4788538E9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3313B-C40A-4DE7-A968-2A6D7242C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29B9A-F03B-4339-A877-5E176A36A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EC014-E107-43FA-939B-D651FD6C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ADBE-40D0-418D-9070-8D54F88B6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1A9B0-8C1D-4B18-BB05-274C2504F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B8467-CBCD-4D2D-8E85-CA4153B57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6F0EA-4974-47DB-B1C3-5E54BB7BB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690B1-9FC4-40E7-8924-D75C4BE1E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FDF5C-F0A0-4094-AD94-3050878FB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8A9F-FC19-448E-987D-E8F3244AE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beach cleanup the volunteers walk down the beach and collect items that would be classified as litter. Such as bottle caps, candy wrappers, plastic bags, bottles, and cans. The purpose of the beach cleanup is to learn the difference between trash and recyclable materials. Also it is to keep our beaches clean.</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SocietyOceanSci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vironmental cleanup group said it found U.S. beaches slightly cleaner last summer than the year before, but it still picked up nearly 3 million pounds of plastic, cigarettes, foam cups and other deb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sh comes from careless beachgoers, cruise liners and other ships that dump garbage into the ocean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encycloped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4:19:07Z</dcterms:created>
  <dc:creator>dcsuser</dc:creator>
  <dc:description/>
  <dc:language>en-US</dc:language>
  <cp:lastModifiedBy>dcsuser</cp:lastModifiedBy>
  <dcterms:modified xsi:type="dcterms:W3CDTF">2010-03-13T14:30:52Z</dcterms:modified>
  <cp:revision>2</cp:revision>
  <dc:subject/>
  <dc:title>Slide 1</dc:title>
</cp:coreProperties>
</file>