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B148B-03E2-44C6-80C3-CD859D877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D96AF-BE63-474F-90EB-52B8FC985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13F4C-EEFF-4DEC-8AA0-9F4E18EE3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393DD-BB33-4DFA-A50B-78865BDCE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EE95E-55E5-4DD7-A955-C5E5CCE98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80E25-DE76-4E1B-8639-A06D678DB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41143-3A11-4E3A-B42D-875258AF9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50682-BBC7-4632-906D-4DBAB5B95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5E167-FE62-4E39-8152-16A55AA5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A1DD-77EA-4A5D-8B6F-F8D0A39FA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5A057-909A-4E46-AE30-732ED9E5F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CF469-B2F8-4E45-8A94-ED565D249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685F-5963-4BF7-BAA3-D8CB1B7DC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in hood</a:t>
            </a:r>
            <a:endParaRPr b="0" lang="en-US" sz="4400" spc="-1" strike="noStrike">
              <a:solidFill>
                <a:srgbClr val="000000"/>
              </a:solidFill>
              <a:latin typeface="Arial"/>
            </a:endParaRPr>
          </a:p>
        </p:txBody>
      </p:sp>
      <p:sp>
        <p:nvSpPr>
          <p:cNvPr id="42" name="PlaceHolder 2"/>
          <p:cNvSpPr>
            <a:spLocks noGrp="1"/>
          </p:cNvSpPr>
          <p:nvPr>
            <p:ph type="subTitle"/>
          </p:nvPr>
        </p:nvSpPr>
        <p:spPr>
          <a:xfrm>
            <a:off x="456840" y="1295280"/>
            <a:ext cx="853452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rliest Robin Hood was a yeoman, not a wronged nobleman who haunted Barnsdale Forest, not Sherwood; he didn't become a Saxon or mere Englishman fighting the Norman oppressor until Sir Walter Scott dressed him up for his walk-on in </a:t>
            </a:r>
            <a:r>
              <a:rPr b="0" i="1" lang="en-US" sz="3200" spc="-1" strike="noStrike">
                <a:solidFill>
                  <a:srgbClr val="000000"/>
                </a:solidFill>
                <a:latin typeface="Arial"/>
              </a:rPr>
              <a:t>Ivanhoe</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of legends.com </a:t>
            </a:r>
            <a:endParaRPr b="0" lang="en-US" sz="3200" spc="-1" strike="noStrike">
              <a:solidFill>
                <a:srgbClr val="000000"/>
              </a:solidFill>
              <a:latin typeface="Arial"/>
            </a:endParaRPr>
          </a:p>
        </p:txBody>
      </p:sp>
      <p:pic>
        <p:nvPicPr>
          <p:cNvPr id="43" name="" descr=""/>
          <p:cNvPicPr/>
          <p:nvPr/>
        </p:nvPicPr>
        <p:blipFill>
          <a:blip r:embed="rId1"/>
          <a:stretch/>
        </p:blipFill>
        <p:spPr>
          <a:xfrm>
            <a:off x="3581280" y="4038480"/>
            <a:ext cx="1897200" cy="21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Buffalo Came To Be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yth about how the buffalo starts when the chief of a tribe calls all his clan together and says to them “we are all hungry and tired of looking for food. We must find a better food supply.” then the chief sent a hunting party out to look for food but for several days they found nothing. They decided to explore a dark cave one day and after they jumped down a water fall they made out what looked like a door so they knocked on it. After a minuet a old lady came out and asked what they wanted. They told them that their tribe was always very hungry. She took them over to a window and told them to look out it. The men saw a wide plain with herds of buffalo grazing, and they couldn’t believe it was real. The old woman went to her cooking pot and brought them each a bowl of buffalo meat. It was tender and tasty and the men kept eating their bowls stayed full. “You should take these bowls back to the people of your village,” said the old woman. “Tell them I will soon send them live buffalo as well.” “Thank you, thank you, kind grandmother,” said the m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02800"/>
                </a:solidFill>
                <a:latin typeface="Arial"/>
              </a:rPr>
              <a:t>Daniel Boone’s dear</a:t>
            </a:r>
            <a:endParaRPr b="0" lang="en-US" sz="4400" spc="-1" strike="noStrike">
              <a:solidFill>
                <a:srgbClr val="000000"/>
              </a:solidFill>
              <a:latin typeface="Arial"/>
            </a:endParaRPr>
          </a:p>
        </p:txBody>
      </p:sp>
      <p:sp>
        <p:nvSpPr>
          <p:cNvPr id="4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502800"/>
                </a:solidFill>
                <a:latin typeface="Arial"/>
              </a:rPr>
              <a:t>Late one night, Daniel Boone and a friend went out fire hunting. Fire hunting involves the shining of the light from a fire pan. into the woods. The light reflects in the eyes of the deer, which is too dazzled to run and the hunters can shoot it. This night, as they neared a creek bed, Daniel Boone caught a glimpse of blue eyes shining in the darkness. He dismounted from his horse and aimed his rifle, but found himself unable to shoot. he had never seen a blue eyed deer. A rustle told him his prey had fled, and he followed it over a fence and into a meadow. The moonlight told him his "deer" had really been a young woman, and fate had kept him from shooting her. He followed her to the house, where he was met by her father, a close neighb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of legends, 29 April 2007, 6 may 2010, we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t o kidz, animals myths and legends, 6 may 2010, we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olktales, American folklore, 3 February 2010, 6 may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5:02:39Z</dcterms:created>
  <dc:creator>dcsuser</dc:creator>
  <dc:description/>
  <dc:language>en-US</dc:language>
  <cp:lastModifiedBy>dcsuser</cp:lastModifiedBy>
  <dcterms:modified xsi:type="dcterms:W3CDTF">2010-05-07T16:01:52Z</dcterms:modified>
  <cp:revision>3</cp:revision>
  <dc:subject/>
  <dc:title>Robin hood</dc:title>
</cp:coreProperties>
</file>